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B22-5EA7-4E43-8159-2F4A0D75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14C-F51F-4640-9B9B-5D9B8CAD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10A-40D6-4FA7-8D43-5CD498CF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143-5F2D-4309-B033-242F49BA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369-07DB-4D60-A5FC-E89B4791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91F-F9D2-46C4-A9E1-C4BD57C0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5AC-04B5-40C9-BFE9-EC1780F5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C59-1694-4F9D-B8E5-006B5EB0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6B5-A635-4CC9-B049-753A186B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BFF-AE89-42F3-8087-FD25584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22D-1BF3-4FA3-BCC8-34F141E4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A8F-25AC-4AD0-B452-7B5807D8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498C-BED9-4018-B992-FD57C6AB5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Tutorial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6 permutations of the letters A, B, &amp;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219320"/>
            <a:ext cx="601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Fundamental Counting Principal to determine the number of permutations of n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this AB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276720"/>
            <a:ext cx="6400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3 choices fo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choices for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choice for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8640" y="990720"/>
            <a:ext cx="115884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4876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3*2*1 = 6 ways to arrange th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general, the # of permutations of n objects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819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! = n*(n-1)*(n-2)*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4724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ski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9810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ways can 12 skiers in the Olympic finals finish the competition? (if there are no 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114800"/>
            <a:ext cx="777240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2525"/>
                </a:solidFill>
                <a:latin typeface="Arial"/>
              </a:rPr>
              <a:t>12! = 12*11*10*9*8*7*6*5*4*3*2*1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2525"/>
                </a:solidFill>
                <a:latin typeface="Arial"/>
              </a:rPr>
              <a:t>479,001,600 different 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f the 12 skiers can finish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any of the remaining 11 can finish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any of the remaining 10 can finish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7621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ways can 3 of the skiers finish 1</a:t>
            </a:r>
            <a:r>
              <a:rPr b="0" lang="en-US" sz="3200" spc="-1" strike="noStrike" baseline="30000">
                <a:solidFill>
                  <a:srgbClr val="00008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2</a:t>
            </a:r>
            <a:r>
              <a:rPr b="0" lang="en-US" sz="3200" spc="-1" strike="noStrike" baseline="30000">
                <a:solidFill>
                  <a:srgbClr val="00008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&amp; 3</a:t>
            </a:r>
            <a:r>
              <a:rPr b="0" lang="en-US" sz="3200" spc="-1" strike="noStrike" baseline="30000">
                <a:solidFill>
                  <a:srgbClr val="00008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(gold, silver, bronz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1148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So the number of ways the skiers can win the medals is  12*11*10 = 1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762120"/>
            <a:ext cx="77724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mutation of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bjects taken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a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114800"/>
            <a:ext cx="7772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8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57600" y="3429000"/>
                <a:ext cx="310212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be set up as the number of permutations of 12 objects taken 3 at a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762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to the last problem with the sk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505320"/>
            <a:ext cx="7772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12!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2!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2-3)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105520"/>
            <a:ext cx="548640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 baseline="-25000">
                <a:solidFill>
                  <a:srgbClr val="b52525"/>
                </a:solidFill>
                <a:uFillTx/>
                <a:latin typeface="Arial"/>
              </a:rPr>
              <a:t>12*11*10*9*8*7*6*5*4*3*2*1 </a:t>
            </a:r>
            <a:r>
              <a:rPr b="0" lang="en-US" sz="4400" spc="-1" strike="noStrike" baseline="-25000">
                <a:solidFill>
                  <a:srgbClr val="b52525"/>
                </a:solidFill>
                <a:latin typeface="Arial"/>
              </a:rPr>
              <a:t>=</a:t>
            </a:r>
            <a:r>
              <a:rPr b="0" lang="en-US" sz="4400" spc="-1" strike="noStrike" u="sng" baseline="-25000">
                <a:solidFill>
                  <a:srgbClr val="b52525"/>
                </a:solidFill>
                <a:uFillTx/>
                <a:latin typeface="Arial"/>
              </a:rPr>
              <a:t> </a:t>
            </a:r>
            <a:r>
              <a:rPr b="0" lang="en-US" sz="4400" spc="-1" strike="noStrike" baseline="-25000">
                <a:solidFill>
                  <a:srgbClr val="b52525"/>
                </a:solidFill>
                <a:latin typeface="Arial"/>
              </a:rPr>
              <a:t>                                 </a:t>
            </a:r>
            <a:r>
              <a:rPr b="0" lang="en-US" sz="4400" spc="-1" strike="noStrike" baseline="-25000">
                <a:solidFill>
                  <a:srgbClr val="b52525"/>
                </a:solidFill>
                <a:latin typeface="Arial"/>
              </a:rPr>
              <a:t>	</a:t>
            </a:r>
            <a:r>
              <a:rPr b="0" lang="en-US" sz="4400" spc="-1" strike="noStrike" baseline="-25000">
                <a:solidFill>
                  <a:srgbClr val="b52525"/>
                </a:solidFill>
                <a:latin typeface="Arial"/>
              </a:rPr>
              <a:t>   9*8*7*6*5*4*3*2*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61280" y="5153040"/>
            <a:ext cx="2463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b52525"/>
                </a:solidFill>
                <a:latin typeface="Arial"/>
              </a:rPr>
              <a:t>12*11*10 = 1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8480" y="-6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ways can you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6 of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762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colleges, you want to visit all or s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053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utation of 10 objects taken 6 at a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800600"/>
            <a:ext cx="85345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b52525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P</a:t>
            </a:r>
            <a:r>
              <a:rPr b="0" lang="en-US" sz="3000" spc="-1" strike="noStrike" baseline="-25000">
                <a:solidFill>
                  <a:srgbClr val="b52525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 = 10!/(10-6)! = 10!/4!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3,628,800/24 = 151,2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!/(10-10)!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!/0!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762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ways can you vis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10 of th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2670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52525"/>
                </a:solidFill>
                <a:latin typeface="Arial"/>
              </a:rPr>
              <a:t>10! =     ( 0! By definition =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5105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52525"/>
                </a:solidFill>
                <a:latin typeface="Arial"/>
              </a:rPr>
              <a:t>3,628,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 of the objects are repeated, then some of the permutations are not distinguish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6 ways to order the letters M,O,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762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far in our problems, we have used distinct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267080"/>
            <a:ext cx="7772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M,  OMM,  M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M,  OMM,  M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715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nly 3 are distinguishable.  3!/2! = 6/2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DISTINGUISHABLE permutations of n objects where one object is repeate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, another is repeate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, and so 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! /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*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* … *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762120"/>
            <a:ext cx="7772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s with 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ndamental Counting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2 events: 1 event can occur m ways and another event can occur n ways, then the number of ways that both can occur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*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9880"/>
            <a:ext cx="769608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vent 1 = 4 types of m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vent 2 = 3 types of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How many different types of sandwiches can you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3800" y="579132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4*3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HIO : 4 letters with 0 repeated 2 tim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4!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!     2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762120"/>
            <a:ext cx="77724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number of distinguishable permutations of th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114800"/>
            <a:ext cx="76964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MISSISSIPPI : 11 letters with I repeated 4 times, S repeated 4 times, P repeated 2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257800"/>
            <a:ext cx="731520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52525"/>
                </a:solidFill>
                <a:uFillTx/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b52525"/>
                </a:solidFill>
                <a:uFillTx/>
                <a:latin typeface="Arial"/>
              </a:rPr>
              <a:t>11!    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  =  </a:t>
            </a:r>
            <a:r>
              <a:rPr b="0" lang="en-US" sz="3200" spc="-1" strike="noStrike" u="sng">
                <a:solidFill>
                  <a:srgbClr val="b52525"/>
                </a:solidFill>
                <a:uFillTx/>
                <a:latin typeface="Arial"/>
              </a:rPr>
              <a:t>39,916,800  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  =  34,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4!*4!*2!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24*24*2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UMM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762120"/>
            <a:ext cx="77724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number of distinguishable permutations of th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1148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TERFALL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4876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90,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0920" y="3076560"/>
            <a:ext cx="85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7360" y="177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2742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!/(3!*5!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762120"/>
            <a:ext cx="77724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A dog has 8 puppies, 3 male and 5 female.  How many birth orders are poss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3886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52525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events can occur m, n, &amp; p ways, then the number of ways all three can occur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*n*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438280"/>
            <a:ext cx="769608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ent 1 = 4 m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ent 2 = 3 che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ent 3 = 3 b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sandwiches can you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3280" y="54864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4*3*3 = 36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restaurant at Cedar Point, you have the choice of 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rees, 2 different salads, 12 different drinks, &amp; 6 different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438280"/>
            <a:ext cx="769608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dinners (one choice of each) can you cho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9640" y="525780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8*2*12*6 = 1152 different d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Counting Principal with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6858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hio Licenses plates have 3 #’s followed by 3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How many different licenses plates are possible if digits and letters can be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440" y="4038480"/>
            <a:ext cx="78768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There are 10 choices for dig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and 26 choices for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10*10*10*26*26*26 = 17,576,000 different 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plates are possible if digits and numbers cannot be rep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685800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re are still 10 choices for the 1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digit but only 9 choices for the 2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, and 8 for the 3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or the letters, there are 26 for the first, but only 25 for the 2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and 24 for the 3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2578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10*9*8*26*25*24 = 11,232,000 p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4724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9810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7 digit phone numbers are possible if the 1</a:t>
            </a:r>
            <a:r>
              <a:rPr b="0" lang="en-US" sz="3200" spc="-1" strike="noStrike" baseline="30000">
                <a:solidFill>
                  <a:srgbClr val="00008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digit cannot be a 0 or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29200"/>
            <a:ext cx="7772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8*10*10*10*10*10*1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8,000,000 different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4724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9810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 multiple choice test has 10 questions with 4 answers each.  How many ways can you complete the t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876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4*4*4*4*4*4*4*4*4*4 = 4</a:t>
            </a:r>
            <a:r>
              <a:rPr b="0" lang="en-US" sz="3200" spc="-1" strike="noStrike" baseline="30000">
                <a:solidFill>
                  <a:srgbClr val="b52525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 = 1,048,5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4724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Permu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981080"/>
            <a:ext cx="77724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dering of n objects is a permutation of the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5:20Z</dcterms:created>
  <dc:creator>TGHS</dc:creator>
  <dc:description/>
  <dc:language>en-US</dc:language>
  <cp:lastModifiedBy>TGHS</cp:lastModifiedBy>
  <cp:lastPrinted>2008-11-20T13:35:48Z</cp:lastPrinted>
  <dcterms:modified xsi:type="dcterms:W3CDTF">2008-11-20T13:36:00Z</dcterms:modified>
  <cp:revision>4</cp:revision>
  <dc:subject/>
  <dc:title>Combinations and Permutations</dc:title>
</cp:coreProperties>
</file>